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004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7520" y="4716000"/>
            <a:ext cx="5427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4336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809-BBBB-4B45-93DA-BDA04EE928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7520" y="4716000"/>
            <a:ext cx="54277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Under the Act a person is deemed to be disabled if he/she has or has had:</a:t>
            </a:r>
            <a:br>
              <a:rPr sz="1200"/>
            </a:b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" A physical or mental impairment which has a substantial and long term adverse effect on his/her ability to carry out normal day-to-day activities"</a:t>
            </a:r>
            <a:br>
              <a:rPr sz="1200"/>
            </a:br>
            <a:br>
              <a:rPr sz="1200"/>
            </a:b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e list of "normal day-to-day activities" which constitute part of the definition of disability in the Disability Discrimination Act 1995 has been amended by the Autism Act (Northern Ireland) 2011. This clarifies that a condition which has a substantial and long term adverse effect on someone's ability to "take part in normal social interaction or in "forming social relationships" can constitute a "disability".</a:t>
            </a:r>
            <a:br>
              <a:rPr sz="1200"/>
            </a:br>
            <a:br>
              <a:rPr sz="1200"/>
            </a:b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 person on the autism spectrum will be disabled if he/she satisfies the condition laid down in this definit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336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D62-E588-4F77-97A7-8167A49817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0692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475920"/>
            <a:ext cx="66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0692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475920"/>
            <a:ext cx="66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00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pic>
        <p:nvPicPr>
          <p:cNvPr id="3" name="Picture 26" descr="LOOP_pink_RGB.jpg                                              001B669DMacintosh HD                   C316286B:"/>
          <p:cNvPicPr/>
          <p:nvPr/>
        </p:nvPicPr>
        <p:blipFill>
          <a:blip r:embed="rId2"/>
          <a:stretch/>
        </p:blipFill>
        <p:spPr>
          <a:xfrm>
            <a:off x="0" y="5854680"/>
            <a:ext cx="914544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6" descr="LOGO_Scotland_RGB.jpg                                          001B669DMacintosh HD                   C316286B:"/>
          <p:cNvPicPr/>
          <p:nvPr/>
        </p:nvPicPr>
        <p:blipFill>
          <a:blip r:embed="rId3"/>
          <a:stretch/>
        </p:blipFill>
        <p:spPr>
          <a:xfrm>
            <a:off x="7518240" y="1126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42" descr="LOGO_N_Ireland_RGB.jpg                                         001B669DMacintosh HD                   C316286B:"/>
          <p:cNvPicPr/>
          <p:nvPr/>
        </p:nvPicPr>
        <p:blipFill>
          <a:blip r:embed="rId4"/>
          <a:stretch/>
        </p:blipFill>
        <p:spPr>
          <a:xfrm>
            <a:off x="7505640" y="11448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STRAPLINE_PURPLE_RGB"/>
          <p:cNvPicPr/>
          <p:nvPr/>
        </p:nvPicPr>
        <p:blipFill>
          <a:blip r:embed="rId5"/>
          <a:stretch/>
        </p:blipFill>
        <p:spPr>
          <a:xfrm>
            <a:off x="5999040" y="6215040"/>
            <a:ext cx="2716200" cy="19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6" descr="LOOP_pink_RGB.jpg                                              001B669DMacintosh HD                   C316286B:"/>
          <p:cNvPicPr/>
          <p:nvPr/>
        </p:nvPicPr>
        <p:blipFill>
          <a:blip r:embed="rId2"/>
          <a:stretch/>
        </p:blipFill>
        <p:spPr>
          <a:xfrm>
            <a:off x="0" y="5854680"/>
            <a:ext cx="914544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6" descr="LOGO_Scotland_RGB.jpg                                          001B669DMacintosh HD                   C316286B:"/>
          <p:cNvPicPr/>
          <p:nvPr/>
        </p:nvPicPr>
        <p:blipFill>
          <a:blip r:embed="rId3"/>
          <a:stretch/>
        </p:blipFill>
        <p:spPr>
          <a:xfrm>
            <a:off x="7518240" y="1126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2" descr="LOGO_N_Ireland_RGB.jpg                                         001B669DMacintosh HD                   C316286B:"/>
          <p:cNvPicPr/>
          <p:nvPr/>
        </p:nvPicPr>
        <p:blipFill>
          <a:blip r:embed="rId4"/>
          <a:stretch/>
        </p:blipFill>
        <p:spPr>
          <a:xfrm>
            <a:off x="7505640" y="11448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STRAPLINE_PURPLE_RGB"/>
          <p:cNvPicPr/>
          <p:nvPr/>
        </p:nvPicPr>
        <p:blipFill>
          <a:blip r:embed="rId5"/>
          <a:stretch/>
        </p:blipFill>
        <p:spPr>
          <a:xfrm>
            <a:off x="5999040" y="6215040"/>
            <a:ext cx="2716200" cy="19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STRAPLINE_PURPLE_RGB"/>
          <p:cNvPicPr/>
          <p:nvPr/>
        </p:nvPicPr>
        <p:blipFill>
          <a:blip r:embed="rId6"/>
          <a:stretch/>
        </p:blipFill>
        <p:spPr>
          <a:xfrm>
            <a:off x="5999040" y="6215040"/>
            <a:ext cx="2716200" cy="195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00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3200" spc="-1" strike="noStrike">
                <a:solidFill>
                  <a:srgbClr val="ee004f"/>
                </a:solidFill>
                <a:latin typeface="Arial"/>
              </a:rPr>
              <a:t>Designing and delivering autism-friendly services for justice professionals in Northern Ireland  </a:t>
            </a:r>
            <a:br>
              <a:rPr sz="3600"/>
            </a:b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relle Stewart 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National Autistic Society Northern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004f"/>
                </a:solidFill>
                <a:latin typeface="Arial"/>
              </a:rPr>
              <a:t>Developing the Autism Access Award</a:t>
            </a:r>
            <a:endParaRPr b="0" lang="en-US" sz="28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 mystery shop the NAS and  the Commission met with a group of autistic adults and parents of young people with au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ed to their opinions on the visit and their recommendations for any improvements to make the Assembly autism frien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ional Autistic Society (NAS) explained their existing accreditation process and what they would like for public buil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ism Accreditation was established in 1992. It is an autism-specific quality assurance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ission became the first organisation to work with the NAS to formulate an Autism Access Award and to seek accredi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004f"/>
                </a:solidFill>
                <a:latin typeface="Arial"/>
              </a:rPr>
              <a:t>Developing the Stormont Standards</a:t>
            </a:r>
            <a:endParaRPr b="0" lang="en-US" sz="28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S, the Commission and the autism working group worked very hard to develop and deliver a set of standards specifically for public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standards provided public bodies with the criteria they needed to work towards to achieve the ‘Autism Access Award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lots of negotiation and consultation a set of standards was agreed. These are now called the ‘Stormont Standard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The Autism Access Award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utism Access Award demonstrates that an organisation is  committed to being autism-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ward is given to services that have made adjustments so that people with autism, their families and carers, find it easier to visit and use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services must demonstrate that staff received training so that they can understand and adapt to the needs of people with aut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s must also demonstrate that they has consulted people with autism, their families and carers and acted on their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2011 the Northern Ireland Assembly Commission  applied for the  Access Award with support from the 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2012 the Commission were the first organisation to achieve this Aw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Application Process for the Award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organisation registers on the NA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takes a self assessment of services using guidance documents on the NAS web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ational Autistic Society consultant completes a bench marking exercise and gap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ultant creates an action plan to improve autism awareness and  to make services/ facilities more accessible to people with aut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S carries out an audit looking at information provided by the service, e.g. policies, procedures, promotional materials website content etc customer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expert award panel decides which services should receive the Autism Access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Fantastic Initiative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7640" y="1196640"/>
            <a:ext cx="8381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utism Access Award has been a fantastic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organisations have now received the Aw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ational Assembly for W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heatre Royal, Newcast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Scottish Parliament - Parliamentary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oyal Air Force Museum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Queens Park Rangers Football Club. Loftus Road Sta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 organisations working towards the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he Gate restaurant, Islington, Lond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Birmingham Museum and Art Galler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 Inverness Airpor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Middlesborough CAB Advocacy Servi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e004f"/>
                </a:solidFill>
                <a:latin typeface="Arial"/>
              </a:rPr>
              <a:t>Creating Autism Friendly Public Services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ristine Wat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nvironmental Services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rthern Ireland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e004f"/>
                </a:solidFill>
                <a:latin typeface="Arial"/>
              </a:rPr>
              <a:t>Key Elements 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partnership we developed with the 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ur commitment to that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 were the first organisation to  work with the NAS to develop the Stormont Standards and the first ever Autism Access A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ndorsement and support from the Assembly Commission and  Senior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irector of  Facilities became an Autism Champ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mmunicated autism initiatives clearly to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cured staff’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e004f"/>
                </a:solidFill>
                <a:latin typeface="Arial"/>
              </a:rPr>
              <a:t>Autism Friendly Public Services </a:t>
            </a:r>
            <a:endParaRPr b="0" lang="en-US" sz="24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4920" y="1268280"/>
            <a:ext cx="8381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2011 staff from Building Services Branch and the autism working group developed a plan for providing autism friendly publ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or physical changes to the building such as setting up a ‘Quiet Room’ behind the reception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sig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video giving an overview of everything involved in visiting the Assembly, including coming through security and the sound of our fire al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dicated web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http://www.niassembly.gov.uk/visit-and-learning/autism-and-the-assembl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ange of how to guides on  the website on how to consult with people with autism on the web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e004f"/>
                </a:solidFill>
                <a:latin typeface="Arial"/>
              </a:rPr>
              <a:t>Autism web page on the Assembly Site</a:t>
            </a:r>
            <a:endParaRPr b="0" lang="en-US" sz="2800" spc="-1" strike="noStrike">
              <a:solidFill>
                <a:srgbClr val="ee004f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1"/>
          <a:stretch/>
        </p:blipFill>
        <p:spPr>
          <a:xfrm>
            <a:off x="592200" y="1413000"/>
            <a:ext cx="7959600" cy="43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4716360" y="14986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6948360" y="14670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611280" y="350028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6"/>
          <a:stretch/>
        </p:blipFill>
        <p:spPr>
          <a:xfrm>
            <a:off x="2979720" y="35002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7"/>
          <a:stretch/>
        </p:blipFill>
        <p:spPr>
          <a:xfrm>
            <a:off x="4932360" y="33577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8"/>
          <a:stretch/>
        </p:blipFill>
        <p:spPr>
          <a:xfrm>
            <a:off x="7164360" y="321300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e004f"/>
                </a:solidFill>
                <a:latin typeface="Arial"/>
              </a:rPr>
              <a:t>Autism Friendly Public Services 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ism awareness training rolled out to all front lin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ff became Autism Champions. Autism champions are listed on the webp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mpions can be contacted directly for help and assistance by people visiting the Assemb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004f"/>
                </a:solidFill>
                <a:latin typeface="Arial"/>
              </a:rPr>
              <a:t>The National Autistic Society 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K wide organisation working in England Scotland, Wales and Northern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1962 in West London by a group of frustrated parents who had been told that their children could not be edu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65 they opened the Sybil Elgar school the first autism specific school in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74 the first specialist service for adults with autism was opened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on the National Autistic Society is still run and governed by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largest organisation for people with autistic spectrum disorders in the U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Organisational Learning 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hardest thing was changing the Northern Ireland Assembly's webpage to make it more accessible for people using the s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ebsite, video and regular consultation with NAS and the autism support group took up a great deal of  time but worth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 about getting the staff engaged but 90 frontline staff volunteered f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 trained autism champions including Director of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s were minimal  which was important as we had no allocated budget for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ening to and working with people with autism was one of the most important parts of the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ite an autism group to your work to ask their opinion – get valuable and honest feedback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de the building and our services more accessible to anyone on the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front line staff /staff in general are more engaged and aware of the types of visitors to the buil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ff ensure they are as approachable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nning the Autism Access Award has been fantastic for the Commiss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personally enjoy being an autism champ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be even better when other places become part of it, such as leisure centres, cinemas, and public transport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Next Steps for the Assembly 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thern Ireland Assembly Commission is always looking at new ways to integrate practices that make Parliament Buildings more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thern Ireland Assembly will continue to review, update and improve all of the services that we provide to people on the autistic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ange of work is planned for the next year so watch this spac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Contact Details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1412640"/>
            <a:ext cx="4114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irelle Stewa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 National Autistic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 Malone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fast  BT9 6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: 028 9068 70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: 07789941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ail: shirelle.stewart@nas.org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0" y="1341360"/>
            <a:ext cx="411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ristine Wat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al Services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ies Directorate/Offic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orthern Ireland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fast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, BT4 3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: 02890 52126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: 07789757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ristine.Watts@niassembly.gov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Autism Act (NI)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413000"/>
            <a:ext cx="8382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ional Autistic Society Northern Ireland (NAS) supported and consulted with organisations lobbying for the Autis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ism Act (NI) 2011 received royal assent on the 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e into operation on the 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gust 20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ct has two main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To amend the Disability Discrimination Act by extending the criteria</a:t>
            </a:r>
            <a:br>
              <a:rPr sz="800"/>
            </a:b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To produce a cross-departmental autism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ll was a private members bill sponsored by Dominic Bradley M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004f"/>
                </a:solidFill>
                <a:latin typeface="Arial"/>
              </a:rPr>
              <a:t>Developing the Guide for Justice Professionals </a:t>
            </a:r>
            <a:endParaRPr b="0" lang="en-US" sz="24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413000"/>
            <a:ext cx="8382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sat on the Autism Strategy Project Board and the Implementation Project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worked and consulted with different government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ction contained within the Autism Strategy and Action Plan to develop a guide to increase awareness of autism amongst criminal justice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had produced an English gu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reworked the guide in consultation with the D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14 the guide was launched by Minister David Ford, Minister of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e004f"/>
                </a:solidFill>
                <a:latin typeface="Arial"/>
              </a:rPr>
              <a:t>Key elements of the guide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1341000"/>
            <a:ext cx="8381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ist all professionals working in the criminal justice system who may come in to contact with a person with autis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on maybe  a victim of crime, a witness, suspect or an off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ins real life examples and personal accounts by professionals parents/ carers and people with aut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intended to equip criminal justice professionals to diagnose bu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 professionals to work with someone they believe to be on the spectr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lines techniques to help you communicate with someone with aut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on the interview process and on keeping the situation c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ttp://www.dojni.gov.uk/autism-a-guide-for-criminal-justice-profess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e004f"/>
                </a:solidFill>
                <a:latin typeface="Arial"/>
              </a:rPr>
              <a:t>Support from the DOJ</a:t>
            </a:r>
            <a:endParaRPr b="0" lang="en-US" sz="36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nior person within the DOJ was on the Autism Spectrum and pushed the promotion of the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ide circulated via the criminal law committee, the criminal bar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 in the Law Society’s W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eedback from the senior coroner in 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J and ILP held a conference on Autism and Vulnerable Witness for justice professionals. NAS and an Autistic adult presented at the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 delivered an awareness session to law students in Queen’s University Bel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 conducted Awareness Training with senior management in Probation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004f"/>
                </a:solidFill>
                <a:latin typeface="Arial"/>
              </a:rPr>
              <a:t>Beneficial Partnerships</a:t>
            </a:r>
            <a:endParaRPr b="0" lang="en-US" sz="28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NAS reworked the Autism Guide for the D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lped the DOJ to meet their obligations under the Autism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DOJ provided the NAS with legal guidance on crisi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NAS works in partnership with government departments and other organisations to  increase awareness and understanding of people with au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NAS  has a very productive and beneficial partnership with the Northern Ireland Assembly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d to the development of the  Stormont Standards and the first ever Autism Access A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e004f"/>
                </a:solidFill>
                <a:latin typeface="Arial"/>
              </a:rPr>
              <a:t>Northern Ireland Assembly Commission</a:t>
            </a:r>
            <a:endParaRPr b="0" lang="en-US" sz="28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thern Ireland Assembly Commission and its Secretariat serve and support the Assembly in its role of representing the interests of the electorate in making effective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luencing the Executive and holding it to accou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continuously to make Parliament Buildings as accessible as possible to as wide a range of  people as possible for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 physical works including extensive disability access work in  2005/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allation of ramps across the front entrance to Parliament Buildings in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Partnership with the Commission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tine Watts from the Commission contacted the 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to discuss how the Commission could provide autism friendly publ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S consultation group went on a mystery shop/ tour of the Assembly without the Assembly’s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oup reported back to the NAS on their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d the accessibility of the  Assembly  for people with au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2:33:24Z</dcterms:created>
  <dc:creator>Charles Looker</dc:creator>
  <dc:description/>
  <dc:language>en-US</dc:language>
  <cp:lastModifiedBy>fawln</cp:lastModifiedBy>
  <dcterms:modified xsi:type="dcterms:W3CDTF">2015-10-07T14:15:07Z</dcterms:modified>
  <cp:revision>156</cp:revision>
  <dc:subject/>
  <dc:title>NAS Northern Ireland PowerPoint templat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OW">
    <vt:lpwstr>G2,V18;G2,V19;G17,V172;G19,V178</vt:lpwstr>
  </property>
  <property fmtid="{D5CDD505-2E9C-101B-9397-08002B2CF9AE}" pid="3" name="INFOT">
    <vt:lpwstr>G8,V120</vt:lpwstr>
  </property>
  <property fmtid="{D5CDD505-2E9C-101B-9397-08002B2CF9AE}" pid="4" name="NASListDisplay">
    <vt:lpwstr>yes</vt:lpwstr>
  </property>
  <property fmtid="{D5CDD505-2E9C-101B-9397-08002B2CF9AE}" pid="5" name="Order">
    <vt:lpwstr>74400.0000000000</vt:lpwstr>
  </property>
  <property fmtid="{D5CDD505-2E9C-101B-9397-08002B2CF9AE}" pid="6" name="Owner">
    <vt:lpwstr/>
  </property>
  <property fmtid="{D5CDD505-2E9C-101B-9397-08002B2CF9AE}" pid="7" name="PublicationDate">
    <vt:lpwstr>2007-10-02T00:00:00Z</vt:lpwstr>
  </property>
  <property fmtid="{D5CDD505-2E9C-101B-9397-08002B2CF9AE}" pid="8" name="Rank">
    <vt:lpwstr>50.0000000000000</vt:lpwstr>
  </property>
  <property fmtid="{D5CDD505-2E9C-101B-9397-08002B2CF9AE}" pid="9" name="ShortDescription">
    <vt:lpwstr>Presentation with loop and strapline on every page</vt:lpwstr>
  </property>
</Properties>
</file>